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E1C6-AD19-4916-8BA0-A4D08E95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5D8-3840-4168-BC95-BCDE7E8E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887-7413-4F73-B0E8-C26C4E1E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CC0-7A8B-484F-BCD8-ADE2D95B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228A-74CA-472F-A709-173BB536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97F9-0826-47D9-8B75-C0CE0821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7A34-A10A-4C17-9FD4-7139CA80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B1F9-899D-496D-9D56-6192A9B4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DFA1-55DD-4313-808D-97FA9A06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35EC-DC35-430C-B1CD-693EF26D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DF1D-583A-471F-9301-914738D6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E0D-BAC9-4BF5-9D16-8639D753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FC29-CB97-4F1E-A590-019FB17D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541D-8F5B-4633-9F6E-69D50A37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74E5-FDB7-44DA-9D22-F6F91480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1B85-7A43-44B5-9384-7D37D726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8EF3-F3F5-48DB-B611-2B7865D6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39FB3-A697-46EC-A4FF-E396DAF1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991FB-9B30-4619-A270-5BDD85E5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D2BB9-3AE1-4944-9501-EC0851DD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B65F3-7AED-445D-B914-9337CC00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3C5BA-AC7A-4334-B1A8-D2F7E3AD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BF1-1820-4F7F-AD49-0A8EACF2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E0504-97F2-4650-BF66-909366F1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B1103-52B6-47ED-B108-B3639CA3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361AE-607C-48CB-8936-2D10A607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849F8-D4B5-4EDF-BC34-260E34EE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B136B-5C64-464E-B397-CC02CF98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9054E-E867-440F-826B-9882AAE2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3FF4A-9143-446F-8B39-1A7068D7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7D46A-6325-4781-8844-96B320DC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34370-C284-4481-A1E0-74FFCA09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317C8-EA7D-4832-BCAC-DC35F85F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FE3-4868-422C-90E5-1BEA2901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1FFFE-E390-43B0-B665-5DE53B4D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8295B-DF54-4AB9-9E8B-BEB5238B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12AB3-4AB3-43C9-8788-AF14B532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C0102-FD2E-47DF-ADC9-16E45ED3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4FF2B-DCE7-4DA7-ACCD-A668C58A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D7623-4C71-44B1-8B80-1C507114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CB9DA-6F49-4B32-9EF3-8FC8541D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6BFA1-2FB7-44BC-A2C0-111A48FE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36EFE-883C-4550-AA1D-8B851267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57A417-F6FC-42C4-A3BE-6EF8DF08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DFF-81B5-4679-A41D-09D0B38F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845FB-4924-42EC-9DAC-2F553509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D3985-EFFC-49CE-AEFF-0A6CCBAA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445B7-B369-4729-8B5E-8AE36A5D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AE10D-35F3-4DE7-BF20-C36D9525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13183-D534-43A8-918F-4DDB2DE3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CBFB3-E0DF-4BAB-997C-8CF7F912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88ADC-3881-483E-BAAE-7947E2A1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200C53-B1D3-463B-9137-62DE03ED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B025C-9D0F-4117-976D-6EB1CC86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E71AE-6C4A-43CB-865F-9D0C65C3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632-E78F-4422-82ED-0A4E1710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63797-4902-4EF9-AA1B-C27A50C2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C90C9-2618-4E0B-9174-0CD9DFE9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9B2993-FA78-453A-BF72-473E5C45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B0027-4266-49FA-8E8E-4F973C50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0959D-07A3-44ED-813F-7BD5C7A1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DCB64-3E5E-4B0F-B3C9-77491E67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88AD0-3299-4481-B6E5-F92EBB8A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F306D-918D-4455-B550-717BE711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21A81-7A68-43FC-A8CB-5402589A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5A8EB-7429-4680-A235-44C72CFC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D2A-2A41-4E71-B32D-564979B6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B1B069-1BBC-4200-8E3D-33A1B545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9E345-BC1E-4F88-9D0D-42D07BF9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89E5C1-7645-4A8A-A27B-3F9D6751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7D3463-6BFF-412C-B505-ED3C5B08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AD632-5BCC-47D6-8694-6B626BAE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0DC06F-5A17-4D89-83C0-70409C39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AC3F0-18B7-4641-AA9B-4703512C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3EC5A-C9DD-453A-A5B2-07E7DB01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800DD-40ED-42F2-AB33-414752B2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B10EFE-C969-4663-BF9D-034F9DE1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858-7DAB-4224-912B-FE24664A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E151B4-0336-4491-9E77-8EEB3C1D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6F2001-4B2E-4BB7-836F-9ED481EC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77A1C-2EF0-4DC4-BACD-AE0020B4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D35F8-17F5-4976-84A0-7309A73C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C44824-E8EF-4EF0-B0A2-946AFD7B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6CC-EF3B-4581-96ED-06109D0D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9554-5DEF-4EFF-A7F5-AB441053415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6317-BA2E-44C8-A582-9F9306C7EE7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25E7-5BB7-48EC-959F-A323A96ED4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4025-24B0-4BA0-8768-4FEE5D43C1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CCFB-1D88-4F2A-96BE-B9FE75144F7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D562-16CE-438B-AA27-BE9E75E390D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0B7A-1811-4CD1-ADA0-2573D5FB22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28920" y="285480"/>
            <a:ext cx="6500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И ТРЕВОГИ И СТРАХА: СРАВНИТЕЛЬНАЯ ХАРАКТЕРИСТИ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 rot="21285600">
            <a:off x="5357880" y="1643040"/>
            <a:ext cx="3413160" cy="257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 rot="541800">
            <a:off x="2144520" y="4540320"/>
            <a:ext cx="3166920" cy="2081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 rot="1005600">
            <a:off x="500040" y="428760"/>
            <a:ext cx="1776600" cy="2357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4"/>
          <a:stretch/>
        </p:blipFill>
        <p:spPr>
          <a:xfrm rot="20731800">
            <a:off x="2499840" y="1857240"/>
            <a:ext cx="226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3920" y="357120"/>
            <a:ext cx="6829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ТРЕВОЖНОСТ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82580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эмоциональное переживан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сихологическая особенность, устойчивое свойство человека, характерная для него черт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 rot="211200">
            <a:off x="433440" y="3832200"/>
            <a:ext cx="3929040" cy="2611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 rot="21229200">
            <a:off x="4838400" y="3839760"/>
            <a:ext cx="37861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6357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ЖНОСТЬ И СТРАХ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928800"/>
            <a:ext cx="854388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итерии различ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конкретности угрозы, опасности, на которую реагирует челов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угроз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реагирования челове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организации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внутренней напряженност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ительност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о тревог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неотвратимости надвигающейся катастроф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-боязливое возбужд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6929280" y="214200"/>
            <a:ext cx="1722600" cy="1785960"/>
          </a:xfrm>
          <a:prstGeom prst="rect">
            <a:avLst/>
          </a:prstGeom>
          <a:ln w="0">
            <a:noFill/>
          </a:ln>
        </p:spPr>
      </p:pic>
      <p:sp>
        <p:nvSpPr>
          <p:cNvPr id="363" name="Стрелка вправо 5"/>
          <p:cNvSpPr/>
          <p:nvPr/>
        </p:nvSpPr>
        <p:spPr>
          <a:xfrm>
            <a:off x="357120" y="457200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Стрелка вправо 6"/>
          <p:cNvSpPr/>
          <p:nvPr/>
        </p:nvSpPr>
        <p:spPr>
          <a:xfrm>
            <a:off x="35712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Стрелка вправо 7"/>
          <p:cNvSpPr/>
          <p:nvPr/>
        </p:nvSpPr>
        <p:spPr>
          <a:xfrm>
            <a:off x="7429680" y="492912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Стрелка вправо 8"/>
          <p:cNvSpPr/>
          <p:nvPr/>
        </p:nvSpPr>
        <p:spPr>
          <a:xfrm>
            <a:off x="371484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Стрелка вправо 9"/>
          <p:cNvSpPr/>
          <p:nvPr/>
        </p:nvSpPr>
        <p:spPr>
          <a:xfrm>
            <a:off x="357120" y="528624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Стрелка вправо 10"/>
          <p:cNvSpPr/>
          <p:nvPr/>
        </p:nvSpPr>
        <p:spPr>
          <a:xfrm>
            <a:off x="357120" y="56437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4543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СТР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1143000"/>
          <a:ext cx="8186760" cy="4857840"/>
        </p:xfrm>
        <a:graphic>
          <a:graphicData uri="http://schemas.openxmlformats.org/drawingml/2006/table">
            <a:tbl>
              <a:tblPr/>
              <a:tblGrid>
                <a:gridCol w="4210200"/>
                <a:gridCol w="39765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ая определенная, специфичная эмо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да несет негативный отте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комбинация эмоций, где страх – лишь одна из н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 и в виде радостного волнения, волнующего ожи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рахе и в тревоге есть общий эмоциональный компонент в виде чувства волнения и беспокойства, т.е. в обоих понятиях отображено восприятие угрозы или отсутствие чувства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7682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Х И ТРЕВОГА ПО ЩЕРБАТЫХ Ю.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28760" y="1071720"/>
          <a:ext cx="8072280" cy="536724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на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ые 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до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во время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на псих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буждаю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мозя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стимулов, вызывающих эмоц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пределенный, абстрак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й, конкре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00040" y="428760"/>
          <a:ext cx="7786800" cy="600048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1711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в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цирована в буду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ом является прошлый травмирующий опы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мыслительных процессов в формировании психических ощу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изация в к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еаг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инктив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23572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4200" y="10000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эмоциональным переживанием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ое свойство чело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сть и страх различаются по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конкретности угрозы; направленности угрозы; способу реагирования человека; сложности организации переживания; интенсивности пережи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вершенная определенная, специфичная эмоция.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трев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омбинация эмоций, где страх – лишь одна из н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несет негативный оттенок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можна и в виде радостного волнения, волнующего ожид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4114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ЛИТЕРАТУРА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428840"/>
            <a:ext cx="77580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рбатых Ю.В. Ивлева Е.И. «Психофизиологические и клинические аспекты страха, тревоги и фобий». Воронеж. Истоки. 19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sy.1september.ru/articlef.php?ID=200400804. Статья: «ТРЕВОЖНОСТЬ, ТРЕВОГА, СТРАХ: РАЗЛИЧЕНИЕ ПОНЯТИЙ» - Игорь ВАЧКОВ, доктор психологических нау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рд  К.Э.  Психология эмоций  СПб., 199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2T18:50:53Z</dcterms:modified>
  <cp:revision>8</cp:revision>
  <dc:subject/>
  <dc:title>Эмоции тревоги и страха: сравнительная характерис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a0000000000010250600207f5200358026400</vt:lpwstr>
  </property>
</Properties>
</file>